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2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1.wmf" ContentType="image/x-wmf"/>
  <Override PartName="/ppt/media/image19.wmf" ContentType="image/x-wmf"/>
  <Override PartName="/ppt/media/image17.png" ContentType="image/png"/>
  <Override PartName="/ppt/media/image4.jpeg" ContentType="image/jpeg"/>
  <Override PartName="/ppt/media/image16.png" ContentType="image/png"/>
  <Override PartName="/ppt/media/image14.wmf" ContentType="image/x-wmf"/>
  <Override PartName="/ppt/media/image5.jpeg" ContentType="image/jpeg"/>
  <Override PartName="/ppt/media/image2.jpeg" ContentType="image/jpeg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7907-AD8C-4ACC-9726-667A02B9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6F6-A40F-414C-BDBD-0DB2FB80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D9EE-76B8-475A-99D2-1F28E2AB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D442-4EDB-4744-A358-E9E7ADE9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C50EE-C45E-4E5D-902A-64053AB2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4EDDB-61E3-4B7B-A147-9FDDA54C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1BDB-5E34-4DB9-AB5D-65FCCE84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9BEE3-11EC-4F76-A9E5-35266C9F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99AE8-00B2-40F3-ACBA-614355DF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593BB-41E9-4209-9BC8-F0DE8C78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CB44E-699E-4DCA-994B-F628E9EA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DF5-91A8-4C36-B6A9-757F54DF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C14B6-5999-4BE0-A6B8-EB1A4C40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AB60DC-A508-4FB5-ABC0-7A9BC98ED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BBD61C-F134-4B80-9B70-5D5E72FB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B68BC-9D66-4835-97BF-31C0B5DFC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8EBD7-6DA2-48CE-BFD4-26FF0AB6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8D75-FCA9-4564-961B-B9F7ED14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9D87-5280-431E-B926-44771EB0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9DA6-487F-461E-BA1E-3D2C1737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125-EF6D-4F7F-B8E8-EA5E26DA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75E5-F9DF-4325-A60F-C05C66AD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1F5-29AB-4602-B987-EE8AC58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E30-211D-4C26-9B34-E1B2F14D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979D-0F3A-48AC-825A-7C06B7DA9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D0F2-0C88-4AFF-9FA0-07EE6C46D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phototheque.net/Phototheques/Rome/rome-08.JPG&amp;imgrefurl=http://www.phototheque.net/Rome.html&amp;h=1440&amp;w=2160&amp;sz=354&amp;tbnid=wUmPe_I5_mMJ:&amp;tbnh=100&amp;tbnw=150&amp;hl=en&amp;start=1&amp;prev=/images%3Fq%3Drome%26svnum%3D10%26hl%3Den%26lr%3D%26sa%3DN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images.google.com/imgres?imgurl=http://www.hoffmann.caltech.edu/PlacesVisited/html0001/images/Eiffel%2520Tower%2520IPS-15%2520Paris%25207-04.jpg&amp;imgrefurl=http://www.hoffmann.caltech.edu/place_visited2.html&amp;h=480&amp;w=360&amp;sz=28&amp;tbnid=NdtQva2nDmAJ:&amp;tbnh=126&amp;tbnw=94&amp;hl=en&amp;start=2&amp;prev=/images%3Fq%3Dparis%26svnum%3D10%26hl%3Den%26lr%3D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images.google.com/imgres?imgurl=http://www.csua.berkeley.edu/~kahogan/Spain/madrid-post-office.jpg&amp;imgrefurl=http://www.csua.berkeley.edu/~kahogan/Spain/&amp;h=369&amp;w=500&amp;sz=61&amp;tbnid=q-_jIufEwSoJ:&amp;tbnh=93&amp;tbnw=127&amp;hl=en&amp;start=3&amp;prev=/images%3Fq%3Dmadrid%26svnum%3D10%26hl%3Den%26lr%3D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ABBATICAL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124080" y="3505320"/>
            <a:ext cx="3200400" cy="214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886200"/>
            <a:ext cx="2467080" cy="164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10280" y="3809880"/>
            <a:ext cx="1648080" cy="2210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1600200"/>
            <a:ext cx="2509560" cy="1838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304920" y="167652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3429000" y="1371600"/>
            <a:ext cx="2390760" cy="1784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90200" y="59436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l Leong &amp; Pat We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ith the following associated co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8686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lver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280" y="533520"/>
          <a:ext cx="8763120" cy="632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533520"/>
                    <a:ext cx="876312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happens if the market tanks and we need to focus on min. cost or max. residual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2280" y="1914480"/>
            <a:ext cx="8382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ields the following resu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8600" y="1573200"/>
            <a:ext cx="7848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th the associated cos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2305080"/>
            <a:ext cx="853452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olver Tab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28600" y="838080"/>
          <a:ext cx="8534520" cy="5727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838080"/>
                    <a:ext cx="853452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ver Tab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8763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28600" y="533520"/>
          <a:ext cx="8458200" cy="602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533520"/>
                    <a:ext cx="84582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may have a seven week sabbatical coming up in the near fu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one may have a wife and three children that have opi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bark on round the world vacation over the sabbatical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isiting several cities, maximize weighted-average ut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Max. Utility vs. Max. Residual Comparis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8686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trip, as designed, is going to cost someone some ca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nimizing cost only saves ~$168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verage hotel points and relationships (Snake in Australia, Ollie in Germany, etc.) to lower overall costs (in progres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blem 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ximize utility value given preferences and constra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eighted average will be used where 70% will be parents and 30% child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dg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tel, food, airfare, entertainment, ra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 round the world air trav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mefr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mul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ision Variab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ich locations to visit and duration of st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je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ize weighted utility val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trai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weeks in Australia and US, 3 weeks i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49 days must be spent trav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more than 5 days in each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tal cost can not exceed budg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nnegative and Integ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ssumption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rrency converted to US $ and sta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hotels are Starwood proper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avg. cost in that c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ddle-jumper” flight costs in Australia are negligible (included in entertainment cost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imary Solution Methodolog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ximize Uti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87631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olver Dat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853416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Yields the Resu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76960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19:07:23Z</dcterms:created>
  <dc:creator>pjweis</dc:creator>
  <dc:description/>
  <dc:language>en-US</dc:language>
  <cp:lastModifiedBy>NYU Stern</cp:lastModifiedBy>
  <dcterms:modified xsi:type="dcterms:W3CDTF">2005-08-06T12:38:48Z</dcterms:modified>
  <cp:revision>27</cp:revision>
  <dc:subject/>
  <dc:title>SABBATICAL!</dc:title>
</cp:coreProperties>
</file>